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04778"/>
        <c:axId val="78732685"/>
      </c:barChart>
      <c:catAx>
        <c:axId val="71004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32685"/>
        <c:crosses val="autoZero"/>
        <c:auto val="1"/>
        <c:lblAlgn val="ctr"/>
        <c:lblOffset val="100"/>
        <c:noMultiLvlLbl val="0"/>
      </c:catAx>
      <c:valAx>
        <c:axId val="78732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04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E01-CC81-4A4C-9412-4C6D616D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D04-834D-464F-AC28-AB6EACF7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DFC-8086-45E1-8478-983AF1E1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B01-BC6A-457D-9898-59DFBC06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0B2-8CFD-4A67-A0C5-D49B2F91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FAE-213E-4161-831A-E6DC4E25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0DD-927A-4A0D-84E3-649AE952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BD1-A632-47D4-B2C4-BAB5BF2B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590-E218-4EDF-AD6D-4FCF407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CB3-BAD5-4FA6-895C-AD88C3AC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3B3-6B6D-45C6-A59D-05AD1EC5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B87-035C-40C4-8964-2ED808C8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98079-00DC-45BD-893F-6F3CE3EB10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