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77969"/>
        <c:axId val="55558497"/>
      </c:barChart>
      <c:catAx>
        <c:axId val="39977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58497"/>
        <c:crosses val="autoZero"/>
        <c:auto val="1"/>
        <c:lblAlgn val="ctr"/>
        <c:lblOffset val="100"/>
        <c:noMultiLvlLbl val="0"/>
      </c:catAx>
      <c:valAx>
        <c:axId val="55558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77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A07-6144-42A7-AA5E-ACF3734B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F52-C498-4A64-BB64-1390357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E90-679E-41CF-8EB5-F8051461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37F-30AD-4444-9B15-5BCFDDBC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544-4DF9-4D81-883D-9CB404A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3DF-9BEB-452B-B85C-DD2C91AB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BCB-1491-4522-914D-938E41C4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A8E-59B9-4937-9164-7073D16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C75-3B61-44A7-9BFB-1769BCB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436-EE05-4F96-BC4B-4921FC8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E02-E94C-4B5D-9E61-219FCE1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88B-DC39-4820-814C-74B796B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1A19-2FDC-4D61-9108-8449AAD68F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