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17697"/>
        <c:axId val="24118399"/>
      </c:barChart>
      <c:catAx>
        <c:axId val="647176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18399"/>
        <c:crosses val="autoZero"/>
        <c:auto val="1"/>
        <c:lblAlgn val="ctr"/>
        <c:lblOffset val="100"/>
        <c:noMultiLvlLbl val="0"/>
      </c:catAx>
      <c:valAx>
        <c:axId val="24118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176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D3DC-EEB5-4E96-9D94-2FB26A9B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E8D1-28AB-458A-B48B-8B94FA84A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7D6-B4A9-4587-86F6-6007427E4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44CE-AE7C-4F80-BB78-4D78D33B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506A-BB17-4DE9-809E-AE39AAF9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EC18-13D0-49D5-87F7-407FC577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4D7-1F78-4901-AAA4-167F3C12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E74E-D93B-400F-A2C6-E9805C56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30CB-0AC8-4340-ACC8-62026301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0EA0-7941-4ABE-A396-31A1AF3B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7306-C5BF-4084-B329-1CDF9605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F84A-AB70-4C10-90C5-D60C13CB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F49F9-9DD2-4041-AC2D-0CC125DE5E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