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3314275"/>
        <c:axId val="55623406"/>
      </c:barChart>
      <c:catAx>
        <c:axId val="1331427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623406"/>
        <c:crosses val="autoZero"/>
        <c:auto val="1"/>
        <c:lblAlgn val="ctr"/>
        <c:lblOffset val="100"/>
        <c:noMultiLvlLbl val="0"/>
      </c:catAx>
      <c:valAx>
        <c:axId val="5562340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31427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DDFF-AA76-4369-8FD9-F61ED73C8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6CE8-10C5-442F-A5D9-08685B666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CFCB-AA8B-4957-9437-68D8960E3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2522-2C0E-4707-866E-F9FA16D8B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DA63-A6AA-4758-9D1D-24E9C5A16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A3B8-65B3-4159-AE52-F97A34727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41BC-CE67-4FFB-88E5-CC4D3F362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44A2-C337-4F3E-BB80-02597AB25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9B6B-49EE-482F-9471-588A711AA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E9B1-BE12-47B8-9B35-D390BAEBB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C41C-633B-4F1E-9728-41F9D6323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D493-565D-48CD-BF63-0D7DFD4F9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E638F5-A244-463D-8826-4B760CE0D7E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