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36149"/>
        <c:axId val="83544556"/>
      </c:barChart>
      <c:catAx>
        <c:axId val="54236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44556"/>
        <c:crosses val="autoZero"/>
        <c:auto val="1"/>
        <c:lblAlgn val="ctr"/>
        <c:lblOffset val="100"/>
        <c:noMultiLvlLbl val="0"/>
      </c:catAx>
      <c:valAx>
        <c:axId val="83544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36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9D7-5C1C-49EE-8F28-0D967855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76F6-68FD-4E0B-AF07-34847311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A1D-53C1-4DEA-A618-3F835B03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7BA-3BDC-491F-B481-1A15715C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176-E3A3-4E2D-9D87-64F34B20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9F6-FC3D-4A0B-BC99-265C93A3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9B5-0C86-4746-A064-C3EDE5E8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E360-2A86-4847-9007-A6C26DE7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413-93EA-46F4-8717-7AC672C0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10D-63A8-4497-9DC0-E4F100F7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BAC-B95B-42F0-A7FE-F8E25DCC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9D68-617B-4624-B42F-3401CA67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0E727-223C-4466-8F59-33CB02C247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