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36948"/>
        <c:axId val="38436141"/>
      </c:barChart>
      <c:catAx>
        <c:axId val="30236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36141"/>
        <c:crosses val="autoZero"/>
        <c:auto val="1"/>
        <c:lblAlgn val="ctr"/>
        <c:lblOffset val="100"/>
        <c:noMultiLvlLbl val="0"/>
      </c:catAx>
      <c:valAx>
        <c:axId val="384361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36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321-CB02-40D6-A81B-B51A92B9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04A-70CD-4EBA-91FE-904BDC95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EB1-A044-4156-99A1-401FD4C2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F61-88FB-4523-A893-59A5C4DE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6B4-FE9E-433A-B896-CC20E477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49A-3CFA-41BA-8A5B-91524975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C36-0C47-4D46-A594-E8B3ADEC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B71-4F5C-4658-9073-682C7DC1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022-FEB1-4859-9089-9EB6FD86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B47-8764-4956-926A-5FF37969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07D-6917-4925-9498-6A8012E5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044-EBD7-47FA-AF8F-E5B97975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E87BC-A4E7-4CFA-9925-456193C05B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