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87871"/>
        <c:axId val="73344165"/>
      </c:barChart>
      <c:catAx>
        <c:axId val="543878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44165"/>
        <c:crosses val="autoZero"/>
        <c:auto val="1"/>
        <c:lblAlgn val="ctr"/>
        <c:lblOffset val="100"/>
        <c:noMultiLvlLbl val="0"/>
      </c:catAx>
      <c:valAx>
        <c:axId val="73344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878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3A0-EDDF-44B1-BC39-AFE3BE77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B99-7F7F-459F-BA5B-D59A328B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BCF-F532-4B44-AF31-AFF3AA77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81A-81A0-4297-9210-BCCBA1FD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B22-560D-4CA4-9504-D9F9FC33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7D3-B454-4D52-B166-BA139BAB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B8C-9C7C-4026-89A6-D53A88EE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592-AC67-4B8E-A419-C79790CB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DB4-7BD6-4592-A75C-03348E9D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82C-649D-4E77-8B60-6DB3B361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B9A-CC69-4714-AE76-A890F7CB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A03-1105-4748-A29D-B63835A6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C9A52-344F-41FE-BCD6-5933FC21EC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