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88648"/>
        <c:axId val="51212903"/>
      </c:barChart>
      <c:catAx>
        <c:axId val="59188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12903"/>
        <c:crosses val="autoZero"/>
        <c:auto val="1"/>
        <c:lblAlgn val="ctr"/>
        <c:lblOffset val="100"/>
        <c:noMultiLvlLbl val="0"/>
      </c:catAx>
      <c:valAx>
        <c:axId val="51212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88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267-F5BD-4705-9FF1-A4644CDA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F724-520E-4068-8ABF-262A1DA8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CDC-72DD-44EC-B0E9-23B1A5C4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01CD-01E0-4A9B-804E-CA71DBC3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F1F-FBA9-43A1-A3E4-3F6A8BF4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B303-7C7F-48BF-B7AA-9129E1BA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77E5-A47E-4D69-8949-62B0AE53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A507-F2BF-49D6-8953-97828E50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489-568C-49B2-9BC7-51B67964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190-EBAC-486B-8FEA-0EC73C12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C7D-9EBB-49DE-9167-6CDFCCD4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F75-3261-47FA-9D57-837A61E9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DEAD6-0FCE-4D4C-B673-73039843B8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