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8961"/>
        <c:axId val="64663575"/>
      </c:barChart>
      <c:catAx>
        <c:axId val="5318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63575"/>
        <c:crosses val="autoZero"/>
        <c:auto val="1"/>
        <c:lblAlgn val="ctr"/>
        <c:lblOffset val="100"/>
        <c:noMultiLvlLbl val="0"/>
      </c:catAx>
      <c:valAx>
        <c:axId val="64663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8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6A3-72C7-4AD3-9592-44F24686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C0FC-140F-437F-8BC2-B4CEB4ED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FED-AA29-473F-85F3-91FF6A74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7A1-B180-435F-B32D-CE619EA9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1F6-435E-4A92-9831-D8F6EC42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795-AED3-4932-B025-D469507A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558-3D34-42B2-BAF9-86F5F9F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E6F-077F-4373-A6E5-6D875A79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0E7-6E86-4422-B649-FE7A0096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DBB-8443-487C-B937-FD02248C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803-71A3-4ECC-B834-A7EE183B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526-5E51-4CC0-A37C-B7111079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967E7-D5DA-4B58-A5EF-FF9BB68702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